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6071-C71E-4B63-8846-94CDBAD31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9E4A-8F61-4687-85AB-1587A4F99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E67B-172D-4022-B5F0-4F3664F16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4166-71A0-4A42-8EB5-35371C8AA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704C-4396-44E2-AD5C-A5B53D134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832A-ABD6-48DB-B0C9-9D073CF46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1F31-0538-4980-9A86-C3C6C4D1C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0336-0BD3-4F54-8E3D-C046ADC98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2704-0F92-43FA-B9EC-4215E18C2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3A61-A38A-4B4A-9C30-DFB8BBD7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F941-D5B4-45AF-8D29-D0A35151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A18C-197A-48E1-BE44-9B1D8ABA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5804F-F3FE-4403-9C6C-4862A35611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 Clase 7IM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14 de abril del 2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40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De donde es tu familia? ¿A donde es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y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rcicio 6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 46 (1-8) and WRITE if the sentence describes a CHARACTERISTIC or a CON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 Ejercicio 9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 47 (1-5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ORKBOOK:   - Completa p. 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066680"/>
            <a:ext cx="822960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6:40:34Z</dcterms:created>
  <dc:creator>Helen Zumaeta</dc:creator>
  <dc:description/>
  <dc:language>en-US</dc:language>
  <cp:lastModifiedBy>Helen Zumaeta</cp:lastModifiedBy>
  <dcterms:modified xsi:type="dcterms:W3CDTF">2011-04-14T18:50:45Z</dcterms:modified>
  <cp:revision>3</cp:revision>
  <dc:subject/>
  <dc:title>Me llamo ________ Clase 7IM La fecha es el 14 de abril del 2011</dc:title>
</cp:coreProperties>
</file>